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A357-0639-4912-9906-A2519A99820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9FF-7634-4F0F-B851-CBF60B05352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D7F-32E5-4074-99B6-339DBE10532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19D-03C8-431B-AC4C-57055F6DAB4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10F5-A3FE-4B8A-AE47-D871C201249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FB96-7F2C-4D18-B262-3B9F056A67C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A64-C1F0-4899-B666-0ACC0E55E4A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39A-86C7-4B1F-8B7F-5E7AE2A8B44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180C-B9EF-4638-A06A-A82BBA238D7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4104-0697-42F9-B078-C9A70CFD1CA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0CB-5F83-4F1B-90E6-B8BFB172C39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09BE-7DBD-4454-8EDF-6FFFC3A2D5A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4DA-334F-43FF-8001-B4555531E34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BEEC-891D-4F8A-BD38-21C799CCC50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043E-5916-40DF-A77E-55BD824FEE1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7435-AAE4-4DBD-B67D-9702F05304F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760-ED4B-4018-8A27-D2E7E235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DA7-35CA-42D8-BABB-77EA10D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CC4-1159-4666-8FEC-218A6FA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39B-68C5-4392-8CFD-E4AD6BD2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8BB-1A99-4BC6-BC11-94995DF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EB4-69AD-4634-9685-3136D8D8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09A-031A-4F15-9702-19855B6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BC9-D834-43BF-83BB-FAEC23A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15E-12F1-42D8-A072-69D1FB9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161-2831-4F56-B22F-87F7E349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D2B-C208-4015-98D5-EC62F890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45C-4208-42E4-A2BD-EB4E9F01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D41-7069-4A00-90CF-341DC0126503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Geospatial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9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4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5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7" name="Right Arrow 8"/>
          <p:cNvGrpSpPr/>
          <p:nvPr/>
        </p:nvGrpSpPr>
        <p:grpSpPr>
          <a:xfrm>
            <a:off x="4170240" y="3097080"/>
            <a:ext cx="1395360" cy="755640"/>
            <a:chOff x="4170240" y="3097080"/>
            <a:chExt cx="1395360" cy="755640"/>
          </a:xfrm>
        </p:grpSpPr>
        <p:pic>
          <p:nvPicPr>
            <p:cNvPr id="148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097080"/>
              <a:ext cx="1395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3840"/>
                <a:gridCol w="141912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6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Brace 1"/>
          <p:cNvSpPr/>
          <p:nvPr/>
        </p:nvSpPr>
        <p:spPr>
          <a:xfrm>
            <a:off x="5940360" y="5445000"/>
            <a:ext cx="287280" cy="1413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6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71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75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89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5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not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elevation.tif” and “elevation-box.shp” available in data of package terra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826920" y="3213000"/>
            <a:ext cx="8042400" cy="981000"/>
          </a:xfrm>
          <a:prstGeom prst="rect">
            <a:avLst/>
          </a:prstGeom>
          <a:solidFill>
            <a:srgbClr val="f3f6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fferent strategies according to the spatial representation of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TerraLib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terralib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6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11T12:11:48Z</dcterms:modified>
  <cp:revision>425</cp:revision>
  <dc:subject/>
  <dc:title>Low-carbon growth in Brazil?</dc:title>
</cp:coreProperties>
</file>